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19.jpeg" ContentType="image/jpeg"/>
  <Override PartName="/ppt/media/image21.jpeg" ContentType="image/jpeg"/>
  <Override PartName="/ppt/media/image16.png" ContentType="image/png"/>
  <Override PartName="/ppt/media/image20.wmf" ContentType="image/x-wmf"/>
  <Override PartName="/ppt/media/image4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8E5DF-4703-4041-97D6-F46112761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parate into equipos of ro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9CACB-6DEB-4EDF-ACD1-2587B37CB1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udents conj. Gustar like a reg. ar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O show who is affected by the pleasing/ receives the action (the pleas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en to me gustas so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FEBB-65A6-49C8-A69E-BEBA7C821A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with your partner to find the differenc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ustar doesn’t agree with the person receiving the action, but with the object/ person who does the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4FF-A5FB-4DA1-839C-534C1EBEA8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board r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980C-AF5C-402B-B945-482189A01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English we use intonation to exaggerate something or to emphasize something. In Spanish they use a mi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 gusta jugar a basquetbol pero a ti te gusta jugar a futb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C51E-71D7-4C05-B546-5E5FBC302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60DF-35BB-4BF5-BDAC-F6D8ECB71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1E13-40D8-4DD1-A231-A0B5A538A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B197-DB00-41E6-B478-81AB71483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DA1-18D8-41F7-88C1-E1A8FB1FE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420F-FD07-4920-BF9E-CDAD5738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7127C-D437-4F53-9545-6586049C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DDDBC-ABCD-49F2-BA95-04FC4AB4C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8347-A15E-4E0E-9E81-F54AC70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C3D7E-7D44-443B-899D-307196AE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B431-7C0E-43F9-946A-7E9CB1B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211E-DB6F-48E4-A42F-1EA2C790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DE6B-F013-4E50-93E0-B35D3B057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D25C9-2C4B-4CBD-A9D6-B055D3BE5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5E43-E5BF-417D-AA36-117B46A45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1B660-6672-4DBC-B2F0-7AC1138C5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525A-FBF7-4EE1-9B5B-C05B6FBDE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25DB-A9D2-4461-BCBA-132BBAD9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E4C2F9-619F-4588-8D02-ADBB6D76A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EDF708-157E-4350-8AF5-35CB7DEE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DD987-AF4D-48ED-BC07-4F23A96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65BC49-9BF5-4BFD-8D6E-FA14A5DE1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FCC62-D572-4FB9-8627-2C854481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CCC5-5E2A-407F-9C66-76ABC18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24FCF-2A00-4D84-9CCD-6D1DF3A6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4B953A-4FFF-4760-BF06-2378BAEE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F0160-1EFC-4256-9FA4-5AB1784CB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6F06E-A9F0-48D7-BEE2-89C21E9A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4E08AE-256F-430A-BF05-4BF1DF07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E53643-47C9-48C5-A231-3F9464185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822002-7712-4A89-9E09-DE9545F6A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0F3C7-B758-4AE5-A0EB-61439159F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DE38A8-B186-46DF-B0F3-01320098B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148EFB-3E63-45AD-84C8-FDB3C9234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8B2CB-5814-4B3A-A5A2-81801A324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42C53C-04F9-49D4-88D7-20A81EC26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B43B97-E81B-49D2-9803-06D0AB5A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503A65-7C91-4484-AEAE-59FC017B3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9F0E69-AEFA-4C7F-82A6-01B6B922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82815C-9F42-4661-9CC5-203A7992B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82F545F-EEE7-48AC-A898-78758F78F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11BB0-78BF-42B4-BFBB-B6D96DBC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4CA5D-3BB6-479B-9B12-5237C8FAD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2F1CF-236C-4652-A0EE-19D9AD502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2CA165-147F-4EB2-8549-DE67D95F8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DA2-F8C0-42C7-B2CF-D075F621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B234D7-A8EB-4919-94B3-330B5B2A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42F531-621C-4C1F-B12F-459ED251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146656-02E6-4C49-BF78-F924C9A3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4163AC-5244-450F-9AE8-53B6BA819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CFFA2F-5D9F-467A-98F1-AEC55043B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469ACE-C4B2-4248-9ED5-533998A03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6C7421-3D88-4054-BEA4-85E4A91EC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435847-9A3C-439F-A6DE-EF5EF27DA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6FC6FF-C00A-4471-89DE-76654EC39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6DD069-90F5-46D8-9CB4-89C34A590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0BFA-3079-411D-B2E0-5906A3F35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AE9DA1-7538-42F8-85DD-D6DA7E29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2640A-8F47-47BC-BA76-0E593549A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9EA80A-84B4-4D5E-85B2-6D8EA065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2DDA2B-6EAE-48BA-9F86-F76BBCB44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7EBD7-5EF1-4190-8C7F-F728745B3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188BFF-40F2-48CE-89EA-1731BE9E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39422-E091-4391-A6C6-7BE50A336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AF892-47A0-41A8-AAEF-0B5BC97A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D317A-0F02-48F2-9975-DB32A8D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BA3D1-E95E-4C5F-89DF-BB372CD9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CE90-97A8-4465-BED9-D43489D2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AEB9B-6CE0-456A-A082-796F7603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DE00B-4132-49A4-A459-522FD0DCA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DDDFA-DAEF-4B2C-82AC-F9B1CBF18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FCFB5B-3794-403E-AF7A-F443F37DE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B51D8A-6697-4B63-9B87-EA0439800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1B8B3F-5DEE-4BD1-A923-D06EE177C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E3E601-147D-4F6D-9E75-468657DF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DA35DED-2872-4F7D-A5FA-634B9543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B2C1F6-86E6-4B2D-BBA8-15D6C8BA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2A3E05-57A2-4F0A-AD14-76D9D8D4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FDC-4C79-431B-8554-635281391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DE47F4-DF07-4C97-9E35-41F9CBF2D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B7BC9A-3A75-4195-A41C-53A4E4CD1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19F0E2-9FC0-4FAF-AA18-D55528AEE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CCE09E8-3E0E-4B10-86FF-137CD47EA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33554B0-0090-4D66-BB2E-8F01E5013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9B6343-E27F-441C-99B4-A5CDFC700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D9762-7D3E-495F-91A4-5CD4F7308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1B8E3-EC95-4E0C-806D-1C582244F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9B9843-5358-4134-A1B2-EB8C90EE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A2809-AE99-48D2-970C-629FEF8C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843A-D543-49B1-9A11-4B8222B92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5D0FE8-2269-4CB0-8BC8-360A20D2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F75E4D-9EF8-4D2A-91EF-9B1E4BFA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9F48B-AAF8-4B7C-AD43-92A4EFD1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935E54-79C9-425B-B2E1-E7C28E23D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3A807-FCAC-4CA5-8D73-4BD8747F4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3CAEF-9BCA-4C13-BDD2-AB7FB5BEF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C5ACBF-8D50-4FEA-8319-08FCE196E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C7FC-678D-4709-A405-61E9D23069A5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BC825-DA70-40B7-AF7C-5227D64DAC1D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A9ACA-095F-40F1-9CE6-48993823318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0880-5206-4428-AAAE-577B8FCBE860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17124-0A4C-46B4-A7E2-E2BDFC2C55DD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74F-2D39-4A89-A64F-6CCC62BE0253}" type="slidenum">
              <a:rPr b="1" lang="en-US" sz="1400" spc="-1" strike="noStrike">
                <a:solidFill>
                  <a:srgbClr val="775f55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522E-92A1-432B-B848-90B7C6C306E1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94b6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dd80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94b6d2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dd8047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a5ab8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d8b2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75f55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75f55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82AAB-9A56-4CC5-8EF8-4EB445244B22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1447920"/>
            <a:ext cx="6477120" cy="18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75f55"/>
                </a:solidFill>
                <a:latin typeface="Tw Cen MT"/>
              </a:rPr>
              <a:t>GUSTAR</a:t>
            </a:r>
            <a:endParaRPr b="0" lang="en-US" sz="66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PRÁCTICA CON GUSTAR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9" name="TextBox 3"/>
          <p:cNvSpPr/>
          <p:nvPr/>
        </p:nvSpPr>
        <p:spPr>
          <a:xfrm>
            <a:off x="2057400" y="42670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listserv.buffalo.edu/cgi-bin/wa?A2=ind9801&amp;L=FLTEACH&amp;P=R581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sotr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391464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0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Vosotr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2362320" y="2286000"/>
            <a:ext cx="43894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los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2362320" y="2438280"/>
            <a:ext cx="48164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41907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623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NSCRAMBLE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squiar A le Mario gusta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2" name="Picture 2" descr=""/>
          <p:cNvPicPr/>
          <p:nvPr/>
        </p:nvPicPr>
        <p:blipFill>
          <a:blip r:embed="rId1"/>
          <a:stretch/>
        </p:blipFill>
        <p:spPr>
          <a:xfrm>
            <a:off x="2209680" y="2362320"/>
            <a:ext cx="4815000" cy="3203280"/>
          </a:xfrm>
          <a:prstGeom prst="rect">
            <a:avLst/>
          </a:prstGeom>
          <a:ln cap="sq" w="127080">
            <a:solidFill>
              <a:srgbClr val="000000"/>
            </a:solidFill>
            <a:miter/>
          </a:ln>
          <a:effectLst>
            <a:outerShdw dist="50911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A estudiar te ti gusta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4" name="Picture 2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50767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7720" y="4572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75f55"/>
                </a:solidFill>
                <a:latin typeface="Tw Cen MT"/>
              </a:rPr>
              <a:t>Me a mi hablar por teléfono gusta. </a:t>
            </a:r>
            <a:br>
              <a:rPr sz="4000"/>
            </a:b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2133720" y="2590920"/>
            <a:ext cx="4835520" cy="233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25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360" y="228600"/>
            <a:ext cx="8379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Nosotros gusta hacer ejercicio nos a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98" name="Picture 2" descr=""/>
          <p:cNvPicPr/>
          <p:nvPr/>
        </p:nvPicPr>
        <p:blipFill>
          <a:blip r:embed="rId1"/>
          <a:stretch/>
        </p:blipFill>
        <p:spPr>
          <a:xfrm>
            <a:off x="3276720" y="1447920"/>
            <a:ext cx="3004920" cy="45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sta ir de compras a les ello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0" name="Picture 2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65760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ustar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304920" y="2514600"/>
          <a:ext cx="8610480" cy="320040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Yo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Nosotros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Tú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Él, ella, Ud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Ellos, ellas, Uds.)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  <p:sp>
        <p:nvSpPr>
          <p:cNvPr id="362" name="TextBox 6"/>
          <p:cNvSpPr/>
          <p:nvPr/>
        </p:nvSpPr>
        <p:spPr>
          <a:xfrm>
            <a:off x="2743200" y="266688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7"/>
          <p:cNvSpPr/>
          <p:nvPr/>
        </p:nvSpPr>
        <p:spPr>
          <a:xfrm>
            <a:off x="2743200" y="373392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8"/>
          <p:cNvSpPr/>
          <p:nvPr/>
        </p:nvSpPr>
        <p:spPr>
          <a:xfrm>
            <a:off x="2743200" y="464832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9"/>
          <p:cNvSpPr/>
          <p:nvPr/>
        </p:nvSpPr>
        <p:spPr>
          <a:xfrm>
            <a:off x="7543800" y="259092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0"/>
          <p:cNvSpPr/>
          <p:nvPr/>
        </p:nvSpPr>
        <p:spPr>
          <a:xfrm>
            <a:off x="7696080" y="480060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s. a gusta jugar les.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612720" y="1600200"/>
            <a:ext cx="8153280" cy="44956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3708360" cy="236232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"/>
          <p:cNvPicPr/>
          <p:nvPr/>
        </p:nvPicPr>
        <p:blipFill>
          <a:blip r:embed="rId3"/>
          <a:stretch/>
        </p:blipFill>
        <p:spPr>
          <a:xfrm>
            <a:off x="533520" y="3505320"/>
            <a:ext cx="368280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9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97534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¿Cuál es la diferencia entre </a:t>
            </a:r>
            <a:br>
              <a:rPr sz="4000"/>
            </a:br>
            <a:r>
              <a:rPr b="1" lang="en-US" sz="4000" spc="-1" strike="noStrike">
                <a:solidFill>
                  <a:srgbClr val="775f55"/>
                </a:solidFill>
                <a:latin typeface="Tw Cen MT"/>
              </a:rPr>
              <a:t>“gusta” y “gustan”?</a:t>
            </a:r>
            <a:endParaRPr b="0" lang="en-US" sz="40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609480" y="2362320"/>
          <a:ext cx="8153640" cy="3352680"/>
        </p:xfrm>
        <a:graphic>
          <a:graphicData uri="http://schemas.openxmlformats.org/drawingml/2006/table">
            <a:tbl>
              <a:tblPr/>
              <a:tblGrid>
                <a:gridCol w="4077000"/>
                <a:gridCol w="4076640"/>
              </a:tblGrid>
              <a:tr h="66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UST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UST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el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jugo de naranj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depor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lec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películas román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lase de españo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o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zapa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66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ff00"/>
                          </a:solidFill>
                          <a:latin typeface="Tw Cen MT"/>
                        </a:rPr>
                        <a:t>la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comida itali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e 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gustan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Tw Cen MT"/>
                        </a:rPr>
                        <a:t>las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 matemát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I don’t like spiders.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9" name="Picture 3" descr="C:\Users\490teacher\AppData\Local\Microsoft\Windows\Temporary Internet Files\Content.IE5\1L130DFD\MP900430882[1].jpg"/>
          <p:cNvPicPr/>
          <p:nvPr/>
        </p:nvPicPr>
        <p:blipFill>
          <a:blip r:embed="rId1"/>
          <a:stretch/>
        </p:blipFill>
        <p:spPr>
          <a:xfrm>
            <a:off x="2666880" y="1600200"/>
            <a:ext cx="3397320" cy="406728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"/>
          <p:cNvSpPr/>
          <p:nvPr/>
        </p:nvSpPr>
        <p:spPr>
          <a:xfrm>
            <a:off x="3476520" y="5035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s arañ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Girls like flowers. 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3" name="Picture 2" descr="C:\Users\490teacher\AppData\Local\Microsoft\Windows\Temporary Internet Files\Content.IE5\4SUZMEHK\MC900406430[1].wmf"/>
          <p:cNvPicPr/>
          <p:nvPr/>
        </p:nvPicPr>
        <p:blipFill>
          <a:blip r:embed="rId1"/>
          <a:stretch/>
        </p:blipFill>
        <p:spPr>
          <a:xfrm>
            <a:off x="3733920" y="1676520"/>
            <a:ext cx="2011320" cy="3133440"/>
          </a:xfrm>
          <a:prstGeom prst="rect">
            <a:avLst/>
          </a:prstGeom>
          <a:ln w="0">
            <a:noFill/>
          </a:ln>
        </p:spPr>
      </p:pic>
      <p:sp>
        <p:nvSpPr>
          <p:cNvPr id="414" name="TextBox 3"/>
          <p:cNvSpPr/>
          <p:nvPr/>
        </p:nvSpPr>
        <p:spPr>
          <a:xfrm>
            <a:off x="3929040" y="50227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He likes doughnut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17" name="Picture 2" descr="C:\Users\490teacher\AppData\Local\Microsoft\Windows\Temporary Internet Files\Content.IE5\1L130DFD\MP900424381[1].jpg"/>
          <p:cNvPicPr/>
          <p:nvPr/>
        </p:nvPicPr>
        <p:blipFill>
          <a:blip r:embed="rId1"/>
          <a:stretch/>
        </p:blipFill>
        <p:spPr>
          <a:xfrm>
            <a:off x="1905120" y="1371600"/>
            <a:ext cx="4724280" cy="4724280"/>
          </a:xfrm>
          <a:prstGeom prst="rect">
            <a:avLst/>
          </a:prstGeom>
          <a:ln w="0">
            <a:noFill/>
          </a:ln>
        </p:spPr>
      </p:pic>
      <p:sp>
        <p:nvSpPr>
          <p:cNvPr id="418" name="TextBox 3"/>
          <p:cNvSpPr/>
          <p:nvPr/>
        </p:nvSpPr>
        <p:spPr>
          <a:xfrm>
            <a:off x="2590920" y="54100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s rosquill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We don’t like tests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21" name="Picture 2" descr="C:\Users\490teacher\AppData\Local\Microsoft\Windows\Temporary Internet Files\Content.IE5\FRNEBY26\MP900439390[1].jpg"/>
          <p:cNvPicPr/>
          <p:nvPr/>
        </p:nvPicPr>
        <p:blipFill>
          <a:blip r:embed="rId1"/>
          <a:stretch/>
        </p:blipFill>
        <p:spPr>
          <a:xfrm>
            <a:off x="1219320" y="1600200"/>
            <a:ext cx="6400800" cy="42735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3"/>
          <p:cNvSpPr/>
          <p:nvPr/>
        </p:nvSpPr>
        <p:spPr>
          <a:xfrm>
            <a:off x="3200400" y="6095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BO" sz="3200" spc="-1" strike="noStrike">
                <a:solidFill>
                  <a:srgbClr val="000000"/>
                </a:solidFill>
                <a:latin typeface="Arial"/>
              </a:rPr>
              <a:t>Los exáme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124080" y="228600"/>
            <a:ext cx="3654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Para enfásis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533520" y="2438280"/>
          <a:ext cx="8305560" cy="3124440"/>
        </p:xfrm>
        <a:graphic>
          <a:graphicData uri="http://schemas.openxmlformats.org/drawingml/2006/table">
            <a:tbl>
              <a:tblPr/>
              <a:tblGrid>
                <a:gridCol w="4152960"/>
                <a:gridCol w="4152600"/>
              </a:tblGrid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mi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me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nosotros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n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966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ti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8047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él, ella, Ud.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l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w Cen MT"/>
                        </a:rPr>
                        <a:t>A ellos, ellas, Uds.</a:t>
                      </a:r>
                      <a:r>
                        <a:rPr b="1" i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 </a:t>
                      </a: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804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¿Cómo se dice?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dd8047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Yo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2" name="Picture 2" descr=""/>
          <p:cNvPicPr/>
          <p:nvPr/>
        </p:nvPicPr>
        <p:blipFill>
          <a:blip r:embed="rId1"/>
          <a:stretch/>
        </p:blipFill>
        <p:spPr>
          <a:xfrm>
            <a:off x="2433600" y="1981080"/>
            <a:ext cx="47404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Tú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4" name="Picture 2" descr=""/>
          <p:cNvPicPr/>
          <p:nvPr/>
        </p:nvPicPr>
        <p:blipFill>
          <a:blip r:embed="rId1"/>
          <a:stretch/>
        </p:blipFill>
        <p:spPr>
          <a:xfrm>
            <a:off x="3124080" y="1981080"/>
            <a:ext cx="2952720" cy="35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Él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2666880" y="2209680"/>
            <a:ext cx="4362480" cy="28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Ella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2743200" y="1905120"/>
            <a:ext cx="4357800" cy="32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75f55"/>
                </a:solidFill>
                <a:latin typeface="Tw Cen MT"/>
              </a:rPr>
              <a:t>Ud. </a:t>
            </a:r>
            <a:endParaRPr b="0" lang="en-US" sz="4400" spc="-1" strike="noStrike">
              <a:solidFill>
                <a:srgbClr val="775f55"/>
              </a:solidFill>
              <a:latin typeface="Tw Cen MT"/>
            </a:endParaRPr>
          </a:p>
        </p:txBody>
      </p:sp>
      <p:pic>
        <p:nvPicPr>
          <p:cNvPr id="380" name="Picture 2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87044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6T18:12:45Z</dcterms:created>
  <dc:creator>Amanda</dc:creator>
  <dc:description/>
  <dc:language>en-US</dc:language>
  <cp:lastModifiedBy>490teacher</cp:lastModifiedBy>
  <dcterms:modified xsi:type="dcterms:W3CDTF">2012-01-23T07:39:27Z</dcterms:modified>
  <cp:revision>37</cp:revision>
  <dc:subject/>
  <dc:title>GUSTAR</dc:title>
</cp:coreProperties>
</file>